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png" ContentType="image/png"/>
  <Override PartName="/ppt/media/image3.gif" ContentType="image/gif"/>
  <Override PartName="/ppt/media/image5.png" ContentType="image/png"/>
  <Override PartName="/ppt/media/whoosh.wav" ContentType="audio/x-wav"/>
  <Override PartName="/ppt/media/image4.png" ContentType="image/png"/>
  <Override PartName="/ppt/media/image7.gif" ContentType="image/gif"/>
  <Override PartName="/ppt/media/THUNDER2.WAV" ContentType="audio/x-wav"/>
  <Override PartName="/ppt/media/its-awfully-cold.wav" ContentType="audio/x-wav"/>
  <Override PartName="/ppt/media/tbest.wav" ContentType="audio/x-wav"/>
  <Override PartName="/ppt/media/image2.png" ContentType="image/png"/>
  <Override PartName="/ppt/media/chimes.wav" ContentType="audio/x-wav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bark.wav" ContentType="audio/x-wav"/>
  <Override PartName="/ppt/media/laughter.wav" ContentType="audio/x-wav"/>
  <Override PartName="/ppt/media/image13.png" ContentType="image/png"/>
  <Override PartName="/ppt/media/beautiful.wav" ContentType="audio/x-wav"/>
  <Override PartName="/ppt/media/coming2takeme.wav" ContentType="audio/x-wav"/>
  <Override PartName="/ppt/media/image14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applause.wav" ContentType="audio/x-wav"/>
  <Override PartName="/ppt/media/image10.png" ContentType="image/png"/>
  <Override PartName="/ppt/media/image8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323-D289-4FE4-861B-5FBFA4EE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F0D-BB8B-45B2-9DD0-0FF0EE09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979-5E32-499E-85F9-0D6C232B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0BB-7CF4-43FB-9DB6-AB6683C3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9608-B656-4045-ACDA-FBAEEA89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4050-AE57-466A-8EB3-2D77E87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848D-477E-411E-BBDD-D35614EA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FD99-F465-47D8-B63F-5CB8E9B9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50E0-99D0-4E76-B83B-989E9799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DEEB-FA61-4787-9923-D227B138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6F50-9F56-4618-96EE-75628D0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B81-3907-47E3-9518-148481B3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622F-8F12-4E37-874A-16D12C8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46A9-B7DA-478D-9325-657EF23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A293-18BD-42ED-9351-B719A23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474F-EF5B-48FD-916A-6705598C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A96E-D7BF-4CF1-AD91-0904EB7A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181-655A-4442-A628-CC302653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ACC-CE0B-4273-9F41-19497422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A35-32E5-46AF-AEF8-D44BA8D0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CED-EF54-4D66-84B9-0839CBD4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3FB-12F5-4849-9FDB-8816C41F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DEA-23E2-49AB-BD3D-710AA514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381-DE19-4633-9B00-6941B1E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62F0-B24C-41F9-9523-0D9F0009E9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8AAE-65FD-4E6A-93A8-ED2D01D6C7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laughter.wav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audio" Target="../media/bark.wav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audio" Target="../media/beautiful.wav"/><Relationship Id="rId1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audio" Target="../media/coming2takeme.wav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UNDER2.WAV"/><Relationship Id="rId4" Type="http://schemas.openxmlformats.org/officeDocument/2006/relationships/audio" Target="../media/THUNDER2.WAV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audio" Target="../media/tbest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its-awfully-cold.wav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19720" y="25146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Patricia Reilly Gi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Wall W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28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228600"/>
            <a:ext cx="8458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nald Morgan Goes to Bat</a:t>
            </a:r>
            <a:endParaRPr b="1" lang="en-US" sz="5400" spc="1" strike="noStrike">
              <a:ln w="19080">
                <a:solidFill>
                  <a:srgbClr val="cc99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always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laugh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at his jokes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86400" y="380880"/>
            <a:ext cx="32004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want either      a dog or cat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2090520" cy="2060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95280" y="457200"/>
            <a:ext cx="3133800" cy="2406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8120" y="4114800"/>
            <a:ext cx="3962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want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eithe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a dog or cat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91320" y="1397160"/>
            <a:ext cx="1523880" cy="1501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243864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t is certainly        a beautiful day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3429000" y="2666880"/>
            <a:ext cx="228600" cy="352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0" y="4038480"/>
            <a:ext cx="52578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certainly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a beautiful day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429000" y="2666880"/>
            <a:ext cx="228600" cy="352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4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28240" y="46479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You’re a nut!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800600"/>
            <a:ext cx="3962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78144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28240" y="46479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You’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a nut!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78144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5238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ook at the word carefully as it flashes on the screen and then we will spell it toget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828800"/>
            <a:ext cx="6933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Comic Sans MS"/>
              </a:rPr>
              <a:t>laugh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828800"/>
            <a:ext cx="693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000000"/>
                </a:solidFill>
                <a:latin typeface="Comic Sans MS"/>
              </a:rPr>
              <a:t>worst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2640" y="7617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hant the words one time as they appear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828800"/>
            <a:ext cx="274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you’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gr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ei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ertai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wo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828800"/>
            <a:ext cx="693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you’re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828800"/>
            <a:ext cx="6933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eithe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828800"/>
            <a:ext cx="69339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second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828800"/>
            <a:ext cx="69339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grea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828800"/>
            <a:ext cx="82296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Comic Sans MS"/>
              </a:rPr>
              <a:t>certainl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Verdana"/>
              </a:rPr>
              <a:t>HOME RUN!           Great job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at was the worst     storm I have ever seen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1743120" cy="334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743120" cy="334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858000" y="304920"/>
            <a:ext cx="1743120" cy="3343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819520" y="304920"/>
            <a:ext cx="1743120" cy="3343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19720" y="4038480"/>
            <a:ext cx="3429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at was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wors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storm I have ever seen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174312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THUNDER2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UNDER2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e are a great class…simply the BEST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486400" cy="338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76720" y="3886200"/>
            <a:ext cx="39621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e are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great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ass…simply the BEST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486400" cy="33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60200" y="3429000"/>
            <a:ext cx="8839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is was the 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second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        time it snowed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572000"/>
            <a:ext cx="5105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560" y="3504960"/>
            <a:ext cx="8839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is was the 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second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 time it snowed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always laugh      at his jokes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80880"/>
            <a:ext cx="3200400" cy="225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33920" y="4038480"/>
            <a:ext cx="3581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24:07Z</dcterms:created>
  <dc:creator>WebMaster</dc:creator>
  <dc:description/>
  <dc:language>en-US</dc:language>
  <cp:lastModifiedBy>default</cp:lastModifiedBy>
  <dcterms:modified xsi:type="dcterms:W3CDTF">2007-09-29T12:40:57Z</dcterms:modified>
  <cp:revision>49</cp:revision>
  <dc:subject/>
  <dc:title>Slide 1</dc:title>
</cp:coreProperties>
</file>